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43E-1B3B-436A-9941-3F9AA063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B34-D550-4AED-9F5A-A1F11F5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A78-C1D9-491C-9084-AB8C97FE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FA4-EE34-46FE-AFDD-9E6C238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C592-AF23-4C15-902F-1D91066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4E6C-1D8B-4BC5-AE25-675591A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969D-20DF-41F8-BCEF-CF2DD03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7B3-1740-403F-9A44-5723DBE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A949-28CD-4270-977D-EFA6F59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5E4-AD6F-4546-98EC-9137FFB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E6DB-F9AB-4F90-9EF8-AE4B6F8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0E9-D23E-4399-B054-0DCC1A7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2FE-6F68-4F5D-BD2A-3DF46DD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200E-AA8E-4E65-913C-C33556A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6ABD-93FE-4423-B579-2F1C6DA2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C9C-A152-4C44-B45B-A5489578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2FD-9DFD-42F2-9847-EE280F4F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43A-D619-438D-8BE2-100A6A89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1CB-3527-4A18-92EB-B319B58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E4-2C27-477B-B393-DAFBA22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837-B440-483F-9211-4ADE3ED3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761-3E1A-473A-8E18-35F7F0A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402-9079-40D5-9FDD-7B694AC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0D5-8B71-4618-B580-C649C2E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B073-2AE9-4608-BC29-B6D9FCAA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280-EDB1-455F-B036-60D14E28BA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Chapter 30</a:t>
            </a: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2520" y="32000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Revolution, Reunification, and Rebuilding, 1985 to the Present</a:t>
            </a: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Gorbachev's Reforms in the Soviet Unio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new era of fundamental change began under Gorbachev in 198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y 1982, economic decline was worsened by mass apathy and lack of personal init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ndropov tried to reinvigorate the old system but with no su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orbachev set forth a series of reforms to restructure the economy (perestroika), centering on a freer market economy, but the economy stalled midway between central planning and free-market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He inistituted glasnost, or openness in society and politics, leading to much more freedom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Democratization of the Soviet state was begun; free election were held in 1989 for the first time since 1917; meetings of Congress were televi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mocratization encouraged demands for autonomy by non-Russian min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orbachev withdrew troops from Afghanistan and encouraged reform in eastern Europe, repudiating the Brezhnev Doctr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The Revolution of 198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Gorbachev's plan to reform communism snowballed out of control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series of anti-Communist revolts spread across eastern Eur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Gorbachev's reform plans in the Soviet Union backfired as anti-Communist revolts took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Collapse of Communism in Eastern Europ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orbachev's plan reform communism snowballed out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In Poland, Solidarity was again legalized and won overwhelming in free e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orbachev refused to send Soviet troops to keep Polish communists in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any radical political and economic reforms instit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n Hungary, popular resistance and communist liberation ended one-party rule and brought free elections in 19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 multiparty democracy was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orders between Hungary and East Germany wer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Growing economic dislocation brought revolution in East Ger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Berlin Wall wa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mmunist leaders were swept out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people of Czechoslovakia ousted the communist bosses in 19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Only in Romania was the revolution violent and blo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ausescu wa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Romania's political prospects remained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The Disintegration of the USSR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 1990, the moderate Gorbachev was in between hard-line communists and revolutionary democrats and anti-Commun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roups (i.e., in Lithuania and the Caucasus) still with in the Soviet Union were challenging Soviet ( Great Russian)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 February 1990, the democrats and anti-Communists won local elections; Gorbachev's new constitution abolished the party's monopoly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orbachev was elected president of the Soviet Un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radical Boris Yeltsin was elected leader of parliament while Gorbachev tired to keep the Soviet Union i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 an attempt coup, hard-liners kidnapped Gorbachev; Yeltsin saved the government and brought about more re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By declaring Russia independent from the Soviet Union, Yeltsin caused the dismemberment of the Soviet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orbachev's job ceased to 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Russia now concentrated on building a strong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I. Decline of Communism in Eastern Europ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Soviet Union had shifted back and forth between a desire to reform itself and aggressive dictatorship-then Gorbachev opened a new era of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German unification and the end of the cold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death of communism in East Germany reopened the question of German un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ast German reform communists had feared unification and looked for a 'third way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is idea failed because half the population fled and because West German Kohl offered a generous economic plan to bankrupt East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key to unification was Gorbachev's approval (1990) in exchange for aid; Germany was officially unified in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96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aris Accord of 1990 brought twenty-two European countries to agree to arms reductions and to affirm existing b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Americans and he Soviets followed with a significant reduction in nuclear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th Russia in decline, only the United States was left as a world super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United States used its new power to turn back an Iraqi invasion of Kuwait in 19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rance, Britain, and the UN supported this massive operation, which smashed Iraqi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new era began with the United States and the United Nations working together to impose peace and stability throughout th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Building a New Europe in the 1990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Common patterns and problems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 states accepted neo-liberal, free-market capita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ormer communist states such as Poland and Hungary turned state industries over to private owners; western states scaled down welfare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 doing this, they were following the successful American econom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new global economy encouraged thes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Europeans joined in the new global economy that stressed open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computer-electronic revolution encouraged the global economy-and leveled the playing field between big and small compa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me workers and unions saw the global economic trends as a threat to wages, job security, and heal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Protesters charged that global neoliberalism hurt the world's p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Liberal democracy united Europe in a common political-cultural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Liberal democracy triumphed throughout most of Europe but was accompanied by a return of nationa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ut the national and ethnic hatreds of Yugoslavia's civil war did not spread widely else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ost nations wished to become members in the European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Recasting Russ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eltsin and Russia opted for breakneck economic liberalization in 19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dustries were sold to the workers; but prices and inflation soared for five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ew firms did not emerged to replace the old state monopolies-as the old mangers joined up with criminals to block true re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 new capitalist elite became rich while many fell into pove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Huge profits were made by some in oil; wealth became over concentrated in Mosc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Life expectancy fell, and only in 1997 did living conditions begin to impr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Soviet Union to 1985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oviet occupation of Czechoslovakia in August 1968 was the most important event in the Brezhnev 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-Stalinization followed, but with a collective not a personal dictat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iving standards improved until the 1970s, when economic decline set in; the gap between the elite and the ordinary person gr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ationalism held the country together in a common belief; the dominant Great Russians feared that minorities within Russia might desire aut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Yeltsin was more successful in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n 1993, he won in a struggle between those who wanted a strong presidency and those who wanted a strong parlia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ut Russia does not yet have a tradition of strong political parties and rule by law and an effective court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240" y="6858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ilitary spending declined, and Russia did not protest that Poland, Hungary, and the Czech Republic joined N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Russia's intervention into Chechnya was an exception to her moderation in foreign af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opular dissatisfaction within Russia led to Yeltsin's withdrawal from Chechn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rogress and tragedy in east central Europe (Poland, the Czech Republic, and from Hungary)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ree major trend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socialist-state planning economies were replaced with market capit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estern-style electoral politics took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cial/economic inequality increased-as the young and the ex-communists became a new elite, and gangsterism in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In addition, nationalism was reb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economic results were impressive: Poland, the Czech Republic, and Hungary all made great g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s well, each made impressive gains in crating new civic institutions, such as legal systems and the presid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three nations were accepted into NATO and the E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lovakia, Romania, and Bulgaria had a more difficult time in economic and political transition from communism to Western tra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tragic pot-communist experience was in the old Yugosla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Yugoslavia was broken up at the fall of communism in 1989-three separatist republics began to fight i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ilosevic led the Serbian Republic to grab territory, which caused Slovenia and Croatia to declare in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erbia retaliated with a war of aggression on Slovenia and Croatia, and then on Bosnia, which had been a part of Ser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osnia declared its independence, which led to a dirty war between Serbs, Croats, and Bosni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any became victims of murder, rape, destruction, and were herded into concentration ca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United States President Clinton used U.S. troops to impose peace, and an agreement was reached that divided Bosnia between Bosnia between Bosnian Serbs and Croatians in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In 1998 the Albanian Muslims of Kosovo fought for independence from Serbian r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Milosevic's Serbian army 780,000 Kosovars into ex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United States and NATO bombing raids led to the defeats of Milosevic and the Serbian government turned him over to the War Crimes Tribu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Unity and Identity in Western Europ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ingle European Act of 1986 gave a powerful second wind to western European 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It set the ground rules for a single market, which was established in 1993-as the European Union (EU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Maastricht Treaty of 1990 established the rules for a single curr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ingle currency (monetary union) is seen as a step toward political unity to 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712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me Europeans opposed this monetary union-partly because of fears of a centralized bureaucracy and fears of cuts in social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Unpopular views of Maastricht in France led to defeat of the Socialist party-and struggles over cuts in social expenditures, like transportation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ossible inclusion of eastern European states into the EU led some to question how effective a huge European state could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erman unification problems (particularly for women) led to increased unemployment and the defeat of Kohl in 199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though new members (Sweden, Finland, and Austria) were brought into the EU, a host of complex issues need to be resolved before its expansion into Easter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Great Russians feared that liberalism and democracy would cause minorities to revo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Nonconformity and protest were severely punished; Jews were persecuted, and some dissidents (such as Solzhenitsyn) were expe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. New challenges in the twenty-first centur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The prospect of population dec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s fear that decline in population is a "ticking time bomb" that will hurt the social welfare system and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fact of careers for women and the drive for gender equality is the decisive reason for the decline of the birth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t is not clear if Europeans will fail to reproduce themselves-as many women stop with a single child or no children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The Growth of Immig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 the 1990s a surge of migrants from Africa, Asia, and Eastern Europe has led to a debate over the value of large-scale immi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any of these new immigrants are political refugees escaping from conflicts in Afghanistan, Rwanda, and other problem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llegal immigrants are in search of jobs-some are young women who are forced into pro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ome Europeans, particularly rightist politicians, oppose immigrants, who are forced into pro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Others believe that Europe needs newcomers to limit population decline and provide technical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Europe's role in the global e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European intellectuals and opinion makers began to envision a new historic mission for Europe: the promotion of peace and human rights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is rests on more global agreements and institutions to set moral standards and the regulation of society to conform to standards of "human rights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nited States, after George W. Bush was elected, reacts coolly to this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ome European states have pushed for greater rights in the area of sexually, smoking of pot, and euthana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me have criticized unrestrained capitalist globalization and seek greater social and economic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240" y="4572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errorist attacks of September 11, 2001, led to further Western struggle against oppression in the non-Western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September 11 terrorists used four hijacked American planes to attack the United States-killing thousands of people from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.S. and its allies launched a military campaign in Afghanistan against the Taliban, Osama bin Laden and his al-Qaida terrorist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Swift punishment of the terrorists brought about a new government and the liberation of Afghan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Nevertheless, a social revolution was in the 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urban population grew to two-thirds of the total and became more sophist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class of educated and self-confident experts grew and became connected to the W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The public became more educated and pol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Solidarity in Poland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Polish communists dropped efforts to impose Soviet-style collectivization on the peasants and to break the Catholic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Polish economy suffered greatly because of poor leadership and the world depression of the 197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240" y="10663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"Polish miracle" occurred when the economic crisis became a spiritual crisis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ope John Paul II, former archbishop of Kracow, called attention to the rights of all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trikes in August 1980 led to revolutionary demands, which were accepted by the government in the Gdansk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240" y="60948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Lech Walesa led the new democratic trade union movement called Solidarity.  Its demands were for industrial, political, and economic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Solidarity had massive support and a sophisticate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It stopped short of directly challenging the communist monopoly of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When Solidarity lost its cohesiveness, the Polish communist leadership under Jaruzelski smashed the movement (1981) and imposed martial la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fter 1981, Solidarity went underground and fought on with great popular 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olish cultural and intellectual life remained vigorous despite the r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0:13:32Z</dcterms:created>
  <dc:creator>Donovan</dc:creator>
  <dc:description/>
  <dc:language>en-US</dc:language>
  <cp:lastModifiedBy>Sue Gregory</cp:lastModifiedBy>
  <dcterms:modified xsi:type="dcterms:W3CDTF">2008-04-30T06:54:48Z</dcterms:modified>
  <cp:revision>30</cp:revision>
  <dc:subject/>
  <dc:title>Chapter 31 </dc:title>
</cp:coreProperties>
</file>